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ED9-EA49-489B-8187-B57A39EB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013-331C-4F9E-B6AC-8DCE3282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23D-AA23-486A-AA63-14B5557E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DA9-FD76-403D-9A78-52F7E02C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3FAB-B55A-427D-B0EB-4E893B11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EF32-386B-40BF-BC26-F3662163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204C-7215-41EF-9B0D-710BE9FE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FB09-61E1-475F-9665-E8278A3D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DD78-E928-4F43-AE93-E0D3DD31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10CC-ED2B-4C13-9406-872F2C22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EB40-3328-4FAA-A130-EE638F7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D32-43E0-4CEC-B9B6-3D7431EA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C96D-FE4A-4A72-A1A5-ED0DBCAC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A348-EA24-443F-8FEC-86ACD785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C6AB-904B-4C70-B4AC-3134F822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9CDA-B15D-4F4D-8245-18E0BBE7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9875-C116-4BF1-9386-29B70F14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69A-C510-4C97-8C4D-DFE0A1C2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81D-A007-421B-AD04-019F7F62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7C9-FFFF-4E2D-8630-45064668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286-102E-491F-B922-095839A5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C54-BB6B-49CD-98F3-ECC0D33B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518-9166-4C40-A6FF-2D627512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96C-42AF-485E-8CCD-0D30941F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BC7C-45F1-4C90-9B5A-003F191D12A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BFFB-061B-42A9-807F-6BD70961060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tlantic Economy and the Slave Tra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nderstand how the Atlantic Economy functio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nderstand how European diplomacy affected the rest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nderstand the slave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ercantilis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economic system of the eighteenth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tion’s wealth based on gold and si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gained colonies for natural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nies can only trade with mother 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pread of Colonial Empi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in and Portugal in Latin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, Peru, 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tain in North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teen Colo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nce in North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bec, Louis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pread of Colonial Empi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in Europe led to war in the colo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conflicts between Britain and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nch and Indian War results in Britain controlling North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nses from the war leads to American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lonial Econom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canti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nies furnish raw materials to home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country sells back manufactured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country has monopoly on colonial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s from other countries highly 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d smugg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lave Tra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introduced to the Americas by Spanish and Portugu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ry introduced to English colonies in 16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s captured from Africa and traveled in Middle Passage to new world to be s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lave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s worked on plant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ar, tobacco, indi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 societies highly stra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s had few rights, if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s believed they did African slaves a “fav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cantilism the major economic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reserves of gold and si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nies need to furnish raw materials to home 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 country provided manufactured 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ry required to maintain mercantlis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08:23:29Z</dcterms:created>
  <dc:creator>Roger W. Knipp</dc:creator>
  <dc:description/>
  <dc:language>en-US</dc:language>
  <cp:lastModifiedBy>Roger W. Knipp</cp:lastModifiedBy>
  <dcterms:modified xsi:type="dcterms:W3CDTF">2005-03-09T08:31:20Z</dcterms:modified>
  <cp:revision>3</cp:revision>
  <dc:subject/>
  <dc:title>The Atlantic Economy and the Slave Trade</dc:title>
</cp:coreProperties>
</file>